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D0C8-3DC9-4754-8907-2C3C8939E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1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2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3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4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5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6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199.104.225.69/smc/jacobs/mat090/default.htm" TargetMode="External"/><Relationship Id="rId2" Type="http://schemas.openxmlformats.org/officeDocument/2006/relationships/hyperlink" Target="http://199.104.225.69/smc/jacobs/defaul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axis (axis of symmetry)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function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, for real numbers a, b, and c, 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reated by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James Q. Jacobs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erstition Mountain Campus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entral Arizona College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equation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equation that can be written in the form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 = 0, where a, b, and c are real numbers,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discriminan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- 4ac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b </a:t>
            </a:r>
            <a:r>
              <a:rPr b="0" lang="en-US" sz="40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real part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par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standard form of a complex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njugate of a 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RomaK</cp:lastModifiedBy>
  <dcterms:modified xsi:type="dcterms:W3CDTF">2015-09-04T07:35:50Z</dcterms:modified>
  <cp:revision>14</cp:revision>
  <dc:subject/>
  <dc:title>Introductory Algebra</dc:title>
</cp:coreProperties>
</file>